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F6EC-7E28-4AF3-B59C-F3DFD47C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F11-3A23-4843-BFF2-63856F8C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810-A33A-4786-9805-2727AE1C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A7F3-49FD-4B97-92C9-38967636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CBF7-17A9-4F55-8C0A-6F54BFFF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7DE-521E-42F7-B257-DA43B062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B501-0C34-43A7-84A5-7DAA54D5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7C5-D126-43A0-9628-42C2CD03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1E1-03C6-4CF9-B207-8D95F38A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AE93-A1BF-4AD7-BFB5-6F14403D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2E5C-0353-42E7-A0FD-AD4349CE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B2F-82F9-4B98-BDAF-28220E08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39BB-587B-4B00-967E-71A7076314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beta-scan33 S1=[0.3,2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095640"/>
            <a:ext cx="4724280" cy="3762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191120" y="1752480"/>
            <a:ext cx="4952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5334120" cy="4012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DPPC xr scan112-121 S1=[0.2,3], sli=[23,11],dppcxr112fit.p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05520" y="3913200"/>
            <a:ext cx="382896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DPPC beta-scan150 S1=[0.3,2], sli=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51492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00200" y="1374840"/>
            <a:ext cx="6186600" cy="54831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a-scan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4305600" cy="3427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PPC GIXOS calcul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Gixos-scan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8320" y="3278160"/>
            <a:ext cx="449568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952880" cy="3943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581280" y="2666880"/>
            <a:ext cx="49532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PC beta- scan172+174, S1=[0.3,2], sli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6294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6553080" cy="5217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00600" y="641520"/>
            <a:ext cx="434340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95560" y="1457280"/>
            <a:ext cx="4952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idalevitz_2009jun,DPPC4 XRscan4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ppcxrfit.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400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beta-scan33 S1=[0.3,1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1411200"/>
            <a:ext cx="678204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dalevitz_2009jun,DPPC3 GIXOS scan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95560" y="1457280"/>
            <a:ext cx="4952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3562200"/>
            <a:ext cx="4248000" cy="3295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4362480" cy="3133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495680" y="228600"/>
            <a:ext cx="43084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beta-scan40 S1=[0.04,1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1216080"/>
            <a:ext cx="708660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700200"/>
            <a:ext cx="705960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528920"/>
            <a:ext cx="6591240" cy="5329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beta-scan84 S1=[0.3,2],Qz=0.4,Alpha=2.26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1406520"/>
            <a:ext cx="6743880" cy="5451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beta-scan88 S1=[0.3,2],Qz=0.2,Alpha=1.13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k-scan59-65 S1=[0.06,2],Qz=0.33,sli=[23,3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1519200"/>
            <a:ext cx="670572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k-scan67 S1=[0.06,2],Qz=0.44,sli=[23,3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1549440"/>
            <a:ext cx="66675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ling</cp:lastModifiedBy>
  <dcterms:modified xsi:type="dcterms:W3CDTF">2009-07-18T01:52:3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